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068-53BE-47A9-BEF9-475EB68E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F27-667C-459C-8F4B-DA4649BE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F45-BA22-44FE-8FA2-8FBE11A5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CCA-A91C-4D8E-96A7-B0B0B023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FA0-77ED-4B08-8BFB-7F22BFB2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B7C-BE2F-4525-A72B-39BE93C0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17C-EBFF-4FD2-AAE6-738BEF2E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26A-D447-4D29-A682-9744602D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5A5-E476-4391-8B87-B02752E0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4EB-4AE6-4282-8069-0BBD4878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74B-573F-4F64-93C5-2FEAEBF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7A1-55CE-4422-A43A-72CEB59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4AE8-EFBC-470A-88AE-BF1018065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07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44640" y="144360"/>
            <a:ext cx="4752720" cy="67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30000">
                <a:solidFill>
                  <a:srgbClr val="ff0000"/>
                </a:solidFill>
                <a:latin typeface="Arial"/>
                <a:ea typeface="Simplified Arabic Fixed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اتي لحظ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 ساعة ت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 يوم واحد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فر من ي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كي أحب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أرض ياا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عندي إل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08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04400" y="434880"/>
            <a:ext cx="5034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فسي اليك عطش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يوم واح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ن ملجأي الأ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جعلني عرش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زيني بابتسا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1080" y="228600"/>
            <a:ext cx="50299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هم ان بد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ستقبلي غيو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صلي للغ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ا لا لن استط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حفظ طهار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ظللني بالقداس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h06" descr=""/>
          <p:cNvPicPr/>
          <p:nvPr/>
        </p:nvPicPr>
        <p:blipFill>
          <a:blip r:embed="rId2"/>
          <a:stretch/>
        </p:blipFill>
        <p:spPr>
          <a:xfrm>
            <a:off x="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47080" y="457200"/>
            <a:ext cx="5029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رجوك خلني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وجهك أضي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ا أصغي إ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صوت الدنيا العق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ب لي حنان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نعمة الطفو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h12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48600" y="457200"/>
            <a:ext cx="5029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ظل عرش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خشى ما ليس أ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لا تخيفني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ياهب الظ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لا هيأت لي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ذاالقلب مكا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1:04Z</dcterms:created>
  <dc:creator>USER</dc:creator>
  <dc:description/>
  <dc:language>en-US</dc:language>
  <cp:lastModifiedBy>USER</cp:lastModifiedBy>
  <dcterms:modified xsi:type="dcterms:W3CDTF">2003-02-09T02:37:57Z</dcterms:modified>
  <cp:revision>2</cp:revision>
  <dc:subject/>
  <dc:title>PowerPoint Presentation</dc:title>
</cp:coreProperties>
</file>